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EC09-4617-451A-8B8E-F3698DC27829}" type="slidenum"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AB74-A321-473F-B274-57E6BFE458B2}" type="slidenum">
              <a:rPr b="0" lang="cy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7C1-3130-4063-A9CB-E2C786CC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DB8-B85A-4EF4-8CAF-3B509BB0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CE63-B660-46B2-AEF4-4DE3ED17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A749-0A05-413E-808E-26B5CCF1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C458-A9F5-4B86-A837-7AADA0FB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18FC-ECCE-4BC7-A9A4-3C78D7C2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F9D7-1E3C-4ED1-84A2-8395135E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563F-73CC-4C86-AF95-F8413558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1475-5A82-44D9-B03E-D648697E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99F3-A522-4C76-8B95-E3DEBE4A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5C4C-1C1B-4DD0-BB1F-D53E91BD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A63-7DAE-41EF-B3E9-B7599D30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3E2C-DC91-4758-ACD0-18129A02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5104-BD75-40C3-914D-3AD8F33C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EAFD-4EE0-4198-BF8D-D4F6833B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9F8F-3DCF-4C6A-83AE-F165F7D3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06CC-1918-4618-901D-2180B186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E47-2C5C-4FFE-A7A0-548D3495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4703-88BB-4752-8726-D6D2A7CC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59D-51ED-4BE2-A19B-3BADF81F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26F-EEA7-4B37-B0A4-94AC1378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4FC-E191-41A3-B9BF-C681268F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3C8C-A02D-47C1-9CA5-C4BDC4BC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0E6-C91A-4DA1-9F90-264A9654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C090-3A17-4496-81DC-D6A0CD90F0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3A5B-BD61-42D8-8849-B3922906FD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Marchnat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 1.1.7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Marchnat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843280" y="1700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uddsoddi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215880" y="2349360"/>
            <a:ext cx="23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cy-GB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fle yn y Farchn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3559680" y="2997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Siâr o</a:t>
            </a:r>
            <a:r>
              <a:rPr b="1" lang="cy-GB" sz="1800" spc="-1" strike="noStrike">
                <a:solidFill>
                  <a:srgbClr val="ffffff"/>
                </a:solidFill>
                <a:latin typeface="Verdana"/>
              </a:rPr>
              <a:t>’r Farchn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371400" y="364500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cwm / Refeni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3957840" y="42926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El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3348000" y="1700280"/>
            <a:ext cx="194328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2987640" y="2349360"/>
            <a:ext cx="2736720" cy="3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3348000" y="2997360"/>
            <a:ext cx="251928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3132000" y="3645000"/>
            <a:ext cx="244800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635280" y="4292640"/>
            <a:ext cx="129708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Line 17"/>
          <p:cNvSpPr/>
          <p:nvPr/>
        </p:nvSpPr>
        <p:spPr>
          <a:xfrm>
            <a:off x="4284720" y="2060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4284720" y="2708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9"/>
          <p:cNvSpPr/>
          <p:nvPr/>
        </p:nvSpPr>
        <p:spPr>
          <a:xfrm>
            <a:off x="4284720" y="33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20"/>
          <p:cNvSpPr/>
          <p:nvPr/>
        </p:nvSpPr>
        <p:spPr>
          <a:xfrm>
            <a:off x="4284720" y="400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5724360" y="1413000"/>
            <a:ext cx="24480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1" lang="cy-GB" sz="1000" spc="-1" strike="noStrike">
                <a:solidFill>
                  <a:srgbClr val="ffffff"/>
                </a:solidFill>
                <a:latin typeface="Verdana"/>
              </a:rPr>
              <a:t>ir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Verdana"/>
              </a:rPr>
              <a:t>Llafur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Verdana"/>
              </a:rPr>
              <a:t>Cyfalaf – Ari</a:t>
            </a:r>
            <a:r>
              <a:rPr b="1" lang="cy-GB" sz="1000" spc="-1" strike="noStrike">
                <a:solidFill>
                  <a:srgbClr val="ffffff"/>
                </a:solidFill>
                <a:latin typeface="Verdana"/>
              </a:rPr>
              <a:t>an / Cyfarpar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" spc="-1" strike="noStrike">
                <a:solidFill>
                  <a:srgbClr val="ffffff"/>
                </a:solidFill>
                <a:latin typeface="Verdana"/>
              </a:rPr>
              <a:t>Amser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1403280" y="1989000"/>
            <a:ext cx="1152720" cy="45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Delwedd y Cynnyrch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Rectangle 23"/>
          <p:cNvSpPr/>
          <p:nvPr/>
        </p:nvSpPr>
        <p:spPr>
          <a:xfrm>
            <a:off x="1547640" y="1989000"/>
            <a:ext cx="9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5292720" y="17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26"/>
          <p:cNvSpPr/>
          <p:nvPr/>
        </p:nvSpPr>
        <p:spPr>
          <a:xfrm>
            <a:off x="5591880" y="364500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2124000" y="429264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Verdana"/>
              </a:rPr>
              <a:t>Os yw B yn fwy nag A = Elw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Marchnat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258920" y="1989000"/>
            <a:ext cx="2521080" cy="22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Line 6"/>
          <p:cNvSpPr/>
          <p:nvPr/>
        </p:nvSpPr>
        <p:spPr>
          <a:xfrm>
            <a:off x="1258920" y="3068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2556000" y="198900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4859280" y="1989000"/>
            <a:ext cx="2521080" cy="22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4859280" y="3068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6156360" y="198900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Line 11"/>
          <p:cNvSpPr/>
          <p:nvPr/>
        </p:nvSpPr>
        <p:spPr>
          <a:xfrm>
            <a:off x="1258920" y="2133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7164360" y="1989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5148360" y="3213000"/>
            <a:ext cx="1871640" cy="72072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AutoShape 15"/>
          <p:cNvSpPr/>
          <p:nvPr/>
        </p:nvSpPr>
        <p:spPr>
          <a:xfrm rot="16200000">
            <a:off x="1043640" y="2709000"/>
            <a:ext cx="1728720" cy="86364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1042920" y="4365720"/>
            <a:ext cx="28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ael pobl i brynu mw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(Datblygu cynnyrch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4572000" y="4365720"/>
            <a:ext cx="302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ael pobl i brynu mw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(Cy</a:t>
            </a:r>
            <a:r>
              <a:rPr b="1" lang="cy-GB" sz="1400" spc="-1" strike="noStrike">
                <a:solidFill>
                  <a:srgbClr val="ffffff"/>
                </a:solidFill>
                <a:latin typeface="Verdana"/>
              </a:rPr>
              <a:t>nyddu marchnadoedd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Marchnat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1619280" y="155736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Matrics y Boston Grou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2195640" y="2060640"/>
            <a:ext cx="5040360" cy="360036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4788000" y="206064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2195640" y="3860640"/>
            <a:ext cx="504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2771640" y="278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êr y Dyfod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19640" y="2852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lant Trafferth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2556000" y="450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usnesau Cys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5435640" y="4508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usnesau Meir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4572000" y="306864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AutoShape 17"/>
          <p:cNvSpPr/>
          <p:nvPr/>
        </p:nvSpPr>
        <p:spPr>
          <a:xfrm rot="5022000">
            <a:off x="5507280" y="378900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18"/>
          <p:cNvSpPr/>
          <p:nvPr/>
        </p:nvSpPr>
        <p:spPr>
          <a:xfrm rot="5400000">
            <a:off x="3275280" y="378936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AutoShape 19"/>
          <p:cNvSpPr/>
          <p:nvPr/>
        </p:nvSpPr>
        <p:spPr>
          <a:xfrm rot="7840800">
            <a:off x="4406040" y="3810600"/>
            <a:ext cx="720720" cy="246240"/>
          </a:xfrm>
          <a:prstGeom prst="rightArrow">
            <a:avLst>
              <a:gd name="adj1" fmla="val 50000"/>
              <a:gd name="adj2" fmla="val 73173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4500720" y="465300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AutoShape 21"/>
          <p:cNvSpPr/>
          <p:nvPr/>
        </p:nvSpPr>
        <p:spPr>
          <a:xfrm>
            <a:off x="4572000" y="270828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Marchnat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2556000" y="2133720"/>
            <a:ext cx="0" cy="3166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2556000" y="5300640"/>
            <a:ext cx="4537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Freeform 11"/>
          <p:cNvSpPr/>
          <p:nvPr/>
        </p:nvSpPr>
        <p:spPr>
          <a:xfrm>
            <a:off x="2700360" y="2276640"/>
            <a:ext cx="1727280" cy="2665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665080"/>
              <a:gd name="textAreaBottom" fmla="*/ 2665440 h 2665080"/>
            </a:gdLst>
            <a:ahLst/>
            <a:rect l="textAreaLeft" t="textAreaTop" r="textAreaRight" b="textAreaBottom"/>
            <a:pathLst>
              <a:path w="803" h="1603">
                <a:moveTo>
                  <a:pt x="0" y="1573"/>
                </a:moveTo>
                <a:cubicBezTo>
                  <a:pt x="36" y="1562"/>
                  <a:pt x="69" y="1552"/>
                  <a:pt x="106" y="1544"/>
                </a:cubicBezTo>
                <a:cubicBezTo>
                  <a:pt x="150" y="1514"/>
                  <a:pt x="192" y="1483"/>
                  <a:pt x="221" y="1439"/>
                </a:cubicBezTo>
                <a:cubicBezTo>
                  <a:pt x="224" y="1420"/>
                  <a:pt x="225" y="1400"/>
                  <a:pt x="230" y="1381"/>
                </a:cubicBezTo>
                <a:cubicBezTo>
                  <a:pt x="235" y="1361"/>
                  <a:pt x="250" y="1324"/>
                  <a:pt x="250" y="1324"/>
                </a:cubicBezTo>
                <a:cubicBezTo>
                  <a:pt x="253" y="1305"/>
                  <a:pt x="258" y="1286"/>
                  <a:pt x="259" y="1266"/>
                </a:cubicBezTo>
                <a:cubicBezTo>
                  <a:pt x="273" y="863"/>
                  <a:pt x="256" y="459"/>
                  <a:pt x="278" y="56"/>
                </a:cubicBezTo>
                <a:cubicBezTo>
                  <a:pt x="279" y="46"/>
                  <a:pt x="297" y="50"/>
                  <a:pt x="307" y="47"/>
                </a:cubicBezTo>
                <a:cubicBezTo>
                  <a:pt x="379" y="0"/>
                  <a:pt x="455" y="19"/>
                  <a:pt x="509" y="76"/>
                </a:cubicBezTo>
                <a:cubicBezTo>
                  <a:pt x="519" y="107"/>
                  <a:pt x="537" y="121"/>
                  <a:pt x="547" y="152"/>
                </a:cubicBezTo>
                <a:cubicBezTo>
                  <a:pt x="550" y="283"/>
                  <a:pt x="552" y="415"/>
                  <a:pt x="557" y="546"/>
                </a:cubicBezTo>
                <a:cubicBezTo>
                  <a:pt x="558" y="584"/>
                  <a:pt x="565" y="623"/>
                  <a:pt x="566" y="661"/>
                </a:cubicBezTo>
                <a:cubicBezTo>
                  <a:pt x="582" y="1179"/>
                  <a:pt x="522" y="995"/>
                  <a:pt x="586" y="1180"/>
                </a:cubicBezTo>
                <a:cubicBezTo>
                  <a:pt x="588" y="1243"/>
                  <a:pt x="558" y="1489"/>
                  <a:pt x="653" y="1564"/>
                </a:cubicBezTo>
                <a:cubicBezTo>
                  <a:pt x="675" y="1582"/>
                  <a:pt x="733" y="1586"/>
                  <a:pt x="758" y="1592"/>
                </a:cubicBezTo>
                <a:cubicBezTo>
                  <a:pt x="803" y="1603"/>
                  <a:pt x="773" y="1602"/>
                  <a:pt x="797" y="160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Freeform 12"/>
          <p:cNvSpPr/>
          <p:nvPr/>
        </p:nvSpPr>
        <p:spPr>
          <a:xfrm>
            <a:off x="4356000" y="2276640"/>
            <a:ext cx="1727280" cy="2665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665080"/>
              <a:gd name="textAreaBottom" fmla="*/ 2665440 h 2665080"/>
            </a:gdLst>
            <a:ahLst/>
            <a:rect l="textAreaLeft" t="textAreaTop" r="textAreaRight" b="textAreaBottom"/>
            <a:pathLst>
              <a:path w="803" h="1603">
                <a:moveTo>
                  <a:pt x="0" y="1573"/>
                </a:moveTo>
                <a:cubicBezTo>
                  <a:pt x="36" y="1562"/>
                  <a:pt x="69" y="1552"/>
                  <a:pt x="106" y="1544"/>
                </a:cubicBezTo>
                <a:cubicBezTo>
                  <a:pt x="150" y="1514"/>
                  <a:pt x="192" y="1483"/>
                  <a:pt x="221" y="1439"/>
                </a:cubicBezTo>
                <a:cubicBezTo>
                  <a:pt x="224" y="1420"/>
                  <a:pt x="225" y="1400"/>
                  <a:pt x="230" y="1381"/>
                </a:cubicBezTo>
                <a:cubicBezTo>
                  <a:pt x="235" y="1361"/>
                  <a:pt x="250" y="1324"/>
                  <a:pt x="250" y="1324"/>
                </a:cubicBezTo>
                <a:cubicBezTo>
                  <a:pt x="253" y="1305"/>
                  <a:pt x="258" y="1286"/>
                  <a:pt x="259" y="1266"/>
                </a:cubicBezTo>
                <a:cubicBezTo>
                  <a:pt x="273" y="863"/>
                  <a:pt x="256" y="459"/>
                  <a:pt x="278" y="56"/>
                </a:cubicBezTo>
                <a:cubicBezTo>
                  <a:pt x="279" y="46"/>
                  <a:pt x="297" y="50"/>
                  <a:pt x="307" y="47"/>
                </a:cubicBezTo>
                <a:cubicBezTo>
                  <a:pt x="379" y="0"/>
                  <a:pt x="455" y="19"/>
                  <a:pt x="509" y="76"/>
                </a:cubicBezTo>
                <a:cubicBezTo>
                  <a:pt x="519" y="107"/>
                  <a:pt x="537" y="121"/>
                  <a:pt x="547" y="152"/>
                </a:cubicBezTo>
                <a:cubicBezTo>
                  <a:pt x="550" y="283"/>
                  <a:pt x="552" y="415"/>
                  <a:pt x="557" y="546"/>
                </a:cubicBezTo>
                <a:cubicBezTo>
                  <a:pt x="558" y="584"/>
                  <a:pt x="565" y="623"/>
                  <a:pt x="566" y="661"/>
                </a:cubicBezTo>
                <a:cubicBezTo>
                  <a:pt x="582" y="1179"/>
                  <a:pt x="522" y="995"/>
                  <a:pt x="586" y="1180"/>
                </a:cubicBezTo>
                <a:cubicBezTo>
                  <a:pt x="588" y="1243"/>
                  <a:pt x="558" y="1489"/>
                  <a:pt x="653" y="1564"/>
                </a:cubicBezTo>
                <a:cubicBezTo>
                  <a:pt x="675" y="1582"/>
                  <a:pt x="733" y="1586"/>
                  <a:pt x="758" y="1592"/>
                </a:cubicBezTo>
                <a:cubicBezTo>
                  <a:pt x="803" y="1603"/>
                  <a:pt x="773" y="1602"/>
                  <a:pt x="797" y="160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Freeform 13"/>
          <p:cNvSpPr/>
          <p:nvPr/>
        </p:nvSpPr>
        <p:spPr>
          <a:xfrm>
            <a:off x="3780000" y="2276640"/>
            <a:ext cx="1726920" cy="266508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2665080"/>
              <a:gd name="textAreaBottom" fmla="*/ 2665440 h 2665080"/>
            </a:gdLst>
            <a:ahLst/>
            <a:rect l="textAreaLeft" t="textAreaTop" r="textAreaRight" b="textAreaBottom"/>
            <a:pathLst>
              <a:path w="803" h="1603">
                <a:moveTo>
                  <a:pt x="0" y="1573"/>
                </a:moveTo>
                <a:cubicBezTo>
                  <a:pt x="36" y="1562"/>
                  <a:pt x="69" y="1552"/>
                  <a:pt x="106" y="1544"/>
                </a:cubicBezTo>
                <a:cubicBezTo>
                  <a:pt x="150" y="1514"/>
                  <a:pt x="192" y="1483"/>
                  <a:pt x="221" y="1439"/>
                </a:cubicBezTo>
                <a:cubicBezTo>
                  <a:pt x="224" y="1420"/>
                  <a:pt x="225" y="1400"/>
                  <a:pt x="230" y="1381"/>
                </a:cubicBezTo>
                <a:cubicBezTo>
                  <a:pt x="235" y="1361"/>
                  <a:pt x="250" y="1324"/>
                  <a:pt x="250" y="1324"/>
                </a:cubicBezTo>
                <a:cubicBezTo>
                  <a:pt x="253" y="1305"/>
                  <a:pt x="258" y="1286"/>
                  <a:pt x="259" y="1266"/>
                </a:cubicBezTo>
                <a:cubicBezTo>
                  <a:pt x="273" y="863"/>
                  <a:pt x="256" y="459"/>
                  <a:pt x="278" y="56"/>
                </a:cubicBezTo>
                <a:cubicBezTo>
                  <a:pt x="279" y="46"/>
                  <a:pt x="297" y="50"/>
                  <a:pt x="307" y="47"/>
                </a:cubicBezTo>
                <a:cubicBezTo>
                  <a:pt x="379" y="0"/>
                  <a:pt x="455" y="19"/>
                  <a:pt x="509" y="76"/>
                </a:cubicBezTo>
                <a:cubicBezTo>
                  <a:pt x="519" y="107"/>
                  <a:pt x="537" y="121"/>
                  <a:pt x="547" y="152"/>
                </a:cubicBezTo>
                <a:cubicBezTo>
                  <a:pt x="550" y="283"/>
                  <a:pt x="552" y="415"/>
                  <a:pt x="557" y="546"/>
                </a:cubicBezTo>
                <a:cubicBezTo>
                  <a:pt x="558" y="584"/>
                  <a:pt x="565" y="623"/>
                  <a:pt x="566" y="661"/>
                </a:cubicBezTo>
                <a:cubicBezTo>
                  <a:pt x="582" y="1179"/>
                  <a:pt x="522" y="995"/>
                  <a:pt x="586" y="1180"/>
                </a:cubicBezTo>
                <a:cubicBezTo>
                  <a:pt x="588" y="1243"/>
                  <a:pt x="558" y="1489"/>
                  <a:pt x="653" y="1564"/>
                </a:cubicBezTo>
                <a:cubicBezTo>
                  <a:pt x="675" y="1582"/>
                  <a:pt x="733" y="1586"/>
                  <a:pt x="758" y="1592"/>
                </a:cubicBezTo>
                <a:cubicBezTo>
                  <a:pt x="803" y="1603"/>
                  <a:pt x="773" y="1602"/>
                  <a:pt x="797" y="160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3419640" y="220500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1332000" y="4581360"/>
            <a:ext cx="13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Verdana"/>
              </a:rPr>
              <a:t>Cyflwy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1979640" y="3141720"/>
            <a:ext cx="197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200" spc="-1" strike="noStrike">
                <a:solidFill>
                  <a:srgbClr val="0000ff"/>
                </a:solidFill>
                <a:latin typeface="Verdana"/>
              </a:rPr>
              <a:t>Marchnad a</a:t>
            </a:r>
            <a:r>
              <a:rPr b="1" lang="en-GB" sz="1200" spc="-1" strike="noStrike">
                <a:solidFill>
                  <a:srgbClr val="0000ff"/>
                </a:solidFill>
                <a:latin typeface="Verdana"/>
              </a:rPr>
              <a:t>eddfe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Rectangle 17"/>
          <p:cNvSpPr/>
          <p:nvPr/>
        </p:nvSpPr>
        <p:spPr>
          <a:xfrm>
            <a:off x="1979640" y="2421000"/>
            <a:ext cx="18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Verdana"/>
              </a:rPr>
              <a:t>Ma</a:t>
            </a:r>
            <a:r>
              <a:rPr b="1" lang="cy-GB" sz="1200" spc="-1" strike="noStrike">
                <a:solidFill>
                  <a:srgbClr val="0000ff"/>
                </a:solidFill>
                <a:latin typeface="Verdana"/>
              </a:rPr>
              <a:t>rchnad law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3510360" y="2492280"/>
            <a:ext cx="178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Verdana"/>
              </a:rPr>
              <a:t>Marc</a:t>
            </a:r>
            <a:r>
              <a:rPr b="1" lang="cy-GB" sz="1200" spc="-1" strike="noStrike">
                <a:solidFill>
                  <a:srgbClr val="0000ff"/>
                </a:solidFill>
                <a:latin typeface="Verdana"/>
              </a:rPr>
              <a:t>hnad yn dirywi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AutoShape 19"/>
          <p:cNvSpPr/>
          <p:nvPr/>
        </p:nvSpPr>
        <p:spPr>
          <a:xfrm>
            <a:off x="3780000" y="2781360"/>
            <a:ext cx="215640" cy="718920"/>
          </a:xfrm>
          <a:prstGeom prst="downArrow">
            <a:avLst>
              <a:gd name="adj1" fmla="val 50000"/>
              <a:gd name="adj2" fmla="val 8334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Freeform 20"/>
          <p:cNvSpPr/>
          <p:nvPr/>
        </p:nvSpPr>
        <p:spPr>
          <a:xfrm>
            <a:off x="3276720" y="2276640"/>
            <a:ext cx="1726920" cy="266508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2665080"/>
              <a:gd name="textAreaBottom" fmla="*/ 2665440 h 2665080"/>
            </a:gdLst>
            <a:ahLst/>
            <a:rect l="textAreaLeft" t="textAreaTop" r="textAreaRight" b="textAreaBottom"/>
            <a:pathLst>
              <a:path w="803" h="1603">
                <a:moveTo>
                  <a:pt x="0" y="1573"/>
                </a:moveTo>
                <a:cubicBezTo>
                  <a:pt x="36" y="1562"/>
                  <a:pt x="69" y="1552"/>
                  <a:pt x="106" y="1544"/>
                </a:cubicBezTo>
                <a:cubicBezTo>
                  <a:pt x="150" y="1514"/>
                  <a:pt x="192" y="1483"/>
                  <a:pt x="221" y="1439"/>
                </a:cubicBezTo>
                <a:cubicBezTo>
                  <a:pt x="224" y="1420"/>
                  <a:pt x="225" y="1400"/>
                  <a:pt x="230" y="1381"/>
                </a:cubicBezTo>
                <a:cubicBezTo>
                  <a:pt x="235" y="1361"/>
                  <a:pt x="250" y="1324"/>
                  <a:pt x="250" y="1324"/>
                </a:cubicBezTo>
                <a:cubicBezTo>
                  <a:pt x="253" y="1305"/>
                  <a:pt x="258" y="1286"/>
                  <a:pt x="259" y="1266"/>
                </a:cubicBezTo>
                <a:cubicBezTo>
                  <a:pt x="273" y="863"/>
                  <a:pt x="256" y="459"/>
                  <a:pt x="278" y="56"/>
                </a:cubicBezTo>
                <a:cubicBezTo>
                  <a:pt x="279" y="46"/>
                  <a:pt x="297" y="50"/>
                  <a:pt x="307" y="47"/>
                </a:cubicBezTo>
                <a:cubicBezTo>
                  <a:pt x="379" y="0"/>
                  <a:pt x="455" y="19"/>
                  <a:pt x="509" y="76"/>
                </a:cubicBezTo>
                <a:cubicBezTo>
                  <a:pt x="519" y="107"/>
                  <a:pt x="537" y="121"/>
                  <a:pt x="547" y="152"/>
                </a:cubicBezTo>
                <a:cubicBezTo>
                  <a:pt x="550" y="283"/>
                  <a:pt x="552" y="415"/>
                  <a:pt x="557" y="546"/>
                </a:cubicBezTo>
                <a:cubicBezTo>
                  <a:pt x="558" y="584"/>
                  <a:pt x="565" y="623"/>
                  <a:pt x="566" y="661"/>
                </a:cubicBezTo>
                <a:cubicBezTo>
                  <a:pt x="582" y="1179"/>
                  <a:pt x="522" y="995"/>
                  <a:pt x="586" y="1180"/>
                </a:cubicBezTo>
                <a:cubicBezTo>
                  <a:pt x="588" y="1243"/>
                  <a:pt x="558" y="1489"/>
                  <a:pt x="653" y="1564"/>
                </a:cubicBezTo>
                <a:cubicBezTo>
                  <a:pt x="675" y="1582"/>
                  <a:pt x="733" y="1586"/>
                  <a:pt x="758" y="1592"/>
                </a:cubicBezTo>
                <a:cubicBezTo>
                  <a:pt x="803" y="1603"/>
                  <a:pt x="773" y="1602"/>
                  <a:pt x="797" y="1602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Freeform 21"/>
          <p:cNvSpPr/>
          <p:nvPr/>
        </p:nvSpPr>
        <p:spPr>
          <a:xfrm>
            <a:off x="4859280" y="2276640"/>
            <a:ext cx="1727280" cy="2665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665080"/>
              <a:gd name="textAreaBottom" fmla="*/ 2665440 h 2665080"/>
            </a:gdLst>
            <a:ahLst/>
            <a:rect l="textAreaLeft" t="textAreaTop" r="textAreaRight" b="textAreaBottom"/>
            <a:pathLst>
              <a:path w="803" h="1603">
                <a:moveTo>
                  <a:pt x="0" y="1573"/>
                </a:moveTo>
                <a:cubicBezTo>
                  <a:pt x="36" y="1562"/>
                  <a:pt x="69" y="1552"/>
                  <a:pt x="106" y="1544"/>
                </a:cubicBezTo>
                <a:cubicBezTo>
                  <a:pt x="150" y="1514"/>
                  <a:pt x="192" y="1483"/>
                  <a:pt x="221" y="1439"/>
                </a:cubicBezTo>
                <a:cubicBezTo>
                  <a:pt x="224" y="1420"/>
                  <a:pt x="225" y="1400"/>
                  <a:pt x="230" y="1381"/>
                </a:cubicBezTo>
                <a:cubicBezTo>
                  <a:pt x="235" y="1361"/>
                  <a:pt x="250" y="1324"/>
                  <a:pt x="250" y="1324"/>
                </a:cubicBezTo>
                <a:cubicBezTo>
                  <a:pt x="253" y="1305"/>
                  <a:pt x="258" y="1286"/>
                  <a:pt x="259" y="1266"/>
                </a:cubicBezTo>
                <a:cubicBezTo>
                  <a:pt x="273" y="863"/>
                  <a:pt x="256" y="459"/>
                  <a:pt x="278" y="56"/>
                </a:cubicBezTo>
                <a:cubicBezTo>
                  <a:pt x="279" y="46"/>
                  <a:pt x="297" y="50"/>
                  <a:pt x="307" y="47"/>
                </a:cubicBezTo>
                <a:cubicBezTo>
                  <a:pt x="379" y="0"/>
                  <a:pt x="455" y="19"/>
                  <a:pt x="509" y="76"/>
                </a:cubicBezTo>
                <a:cubicBezTo>
                  <a:pt x="519" y="107"/>
                  <a:pt x="537" y="121"/>
                  <a:pt x="547" y="152"/>
                </a:cubicBezTo>
                <a:cubicBezTo>
                  <a:pt x="550" y="283"/>
                  <a:pt x="552" y="415"/>
                  <a:pt x="557" y="546"/>
                </a:cubicBezTo>
                <a:cubicBezTo>
                  <a:pt x="558" y="584"/>
                  <a:pt x="565" y="623"/>
                  <a:pt x="566" y="661"/>
                </a:cubicBezTo>
                <a:cubicBezTo>
                  <a:pt x="582" y="1179"/>
                  <a:pt x="522" y="995"/>
                  <a:pt x="586" y="1180"/>
                </a:cubicBezTo>
                <a:cubicBezTo>
                  <a:pt x="588" y="1243"/>
                  <a:pt x="558" y="1489"/>
                  <a:pt x="653" y="1564"/>
                </a:cubicBezTo>
                <a:cubicBezTo>
                  <a:pt x="675" y="1582"/>
                  <a:pt x="733" y="1586"/>
                  <a:pt x="758" y="1592"/>
                </a:cubicBezTo>
                <a:cubicBezTo>
                  <a:pt x="803" y="1603"/>
                  <a:pt x="773" y="1602"/>
                  <a:pt x="797" y="160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Freeform 22"/>
          <p:cNvSpPr/>
          <p:nvPr/>
        </p:nvSpPr>
        <p:spPr>
          <a:xfrm>
            <a:off x="5364000" y="2276640"/>
            <a:ext cx="1727280" cy="2665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665080"/>
              <a:gd name="textAreaBottom" fmla="*/ 2665440 h 2665080"/>
            </a:gdLst>
            <a:ahLst/>
            <a:rect l="textAreaLeft" t="textAreaTop" r="textAreaRight" b="textAreaBottom"/>
            <a:pathLst>
              <a:path w="803" h="1603">
                <a:moveTo>
                  <a:pt x="0" y="1573"/>
                </a:moveTo>
                <a:cubicBezTo>
                  <a:pt x="36" y="1562"/>
                  <a:pt x="69" y="1552"/>
                  <a:pt x="106" y="1544"/>
                </a:cubicBezTo>
                <a:cubicBezTo>
                  <a:pt x="150" y="1514"/>
                  <a:pt x="192" y="1483"/>
                  <a:pt x="221" y="1439"/>
                </a:cubicBezTo>
                <a:cubicBezTo>
                  <a:pt x="224" y="1420"/>
                  <a:pt x="225" y="1400"/>
                  <a:pt x="230" y="1381"/>
                </a:cubicBezTo>
                <a:cubicBezTo>
                  <a:pt x="235" y="1361"/>
                  <a:pt x="250" y="1324"/>
                  <a:pt x="250" y="1324"/>
                </a:cubicBezTo>
                <a:cubicBezTo>
                  <a:pt x="253" y="1305"/>
                  <a:pt x="258" y="1286"/>
                  <a:pt x="259" y="1266"/>
                </a:cubicBezTo>
                <a:cubicBezTo>
                  <a:pt x="273" y="863"/>
                  <a:pt x="256" y="459"/>
                  <a:pt x="278" y="56"/>
                </a:cubicBezTo>
                <a:cubicBezTo>
                  <a:pt x="279" y="46"/>
                  <a:pt x="297" y="50"/>
                  <a:pt x="307" y="47"/>
                </a:cubicBezTo>
                <a:cubicBezTo>
                  <a:pt x="379" y="0"/>
                  <a:pt x="455" y="19"/>
                  <a:pt x="509" y="76"/>
                </a:cubicBezTo>
                <a:cubicBezTo>
                  <a:pt x="519" y="107"/>
                  <a:pt x="537" y="121"/>
                  <a:pt x="547" y="152"/>
                </a:cubicBezTo>
                <a:cubicBezTo>
                  <a:pt x="550" y="283"/>
                  <a:pt x="552" y="415"/>
                  <a:pt x="557" y="546"/>
                </a:cubicBezTo>
                <a:cubicBezTo>
                  <a:pt x="558" y="584"/>
                  <a:pt x="565" y="623"/>
                  <a:pt x="566" y="661"/>
                </a:cubicBezTo>
                <a:cubicBezTo>
                  <a:pt x="582" y="1179"/>
                  <a:pt x="522" y="995"/>
                  <a:pt x="586" y="1180"/>
                </a:cubicBezTo>
                <a:cubicBezTo>
                  <a:pt x="588" y="1243"/>
                  <a:pt x="558" y="1489"/>
                  <a:pt x="653" y="1564"/>
                </a:cubicBezTo>
                <a:cubicBezTo>
                  <a:pt x="675" y="1582"/>
                  <a:pt x="733" y="1586"/>
                  <a:pt x="758" y="1592"/>
                </a:cubicBezTo>
                <a:cubicBezTo>
                  <a:pt x="803" y="1603"/>
                  <a:pt x="773" y="1602"/>
                  <a:pt x="797" y="160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4184280" y="5373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Verdana"/>
              </a:rPr>
              <a:t>Ams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Marchnat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468360" y="2205000"/>
            <a:ext cx="2952720" cy="280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1547640" y="2997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1116000" y="3716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826920" y="429264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3635280" y="2637000"/>
            <a:ext cx="316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PRIS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1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LLE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2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HYRWYDDO    3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YNNYRCH    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2916360" y="1844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rionglau Marchnat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156360" y="3429000"/>
            <a:ext cx="230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Y 4 Hanfo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(5ed yw Pobl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6012000" y="2637000"/>
            <a:ext cx="504720" cy="2016000"/>
          </a:xfrm>
          <a:custGeom>
            <a:avLst/>
            <a:gdLst>
              <a:gd name="textAreaLeft" fmla="*/ 0 w 504720"/>
              <a:gd name="textAreaRight" fmla="*/ 182160 w 50472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Marchnat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AutoShape 29"/>
          <p:cNvSpPr/>
          <p:nvPr/>
        </p:nvSpPr>
        <p:spPr>
          <a:xfrm>
            <a:off x="2556000" y="2637000"/>
            <a:ext cx="1584360" cy="17269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Line 30"/>
          <p:cNvSpPr/>
          <p:nvPr/>
        </p:nvSpPr>
        <p:spPr>
          <a:xfrm>
            <a:off x="3132000" y="31399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Line 31"/>
          <p:cNvSpPr/>
          <p:nvPr/>
        </p:nvSpPr>
        <p:spPr>
          <a:xfrm>
            <a:off x="2916360" y="350028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Line 32"/>
          <p:cNvSpPr/>
          <p:nvPr/>
        </p:nvSpPr>
        <p:spPr>
          <a:xfrm>
            <a:off x="2771640" y="393228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AutoShape 33"/>
          <p:cNvSpPr/>
          <p:nvPr/>
        </p:nvSpPr>
        <p:spPr>
          <a:xfrm>
            <a:off x="826920" y="2637000"/>
            <a:ext cx="1584360" cy="17269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Line 34"/>
          <p:cNvSpPr/>
          <p:nvPr/>
        </p:nvSpPr>
        <p:spPr>
          <a:xfrm>
            <a:off x="1403280" y="31399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Line 35"/>
          <p:cNvSpPr/>
          <p:nvPr/>
        </p:nvSpPr>
        <p:spPr>
          <a:xfrm>
            <a:off x="1187280" y="3500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Line 36"/>
          <p:cNvSpPr/>
          <p:nvPr/>
        </p:nvSpPr>
        <p:spPr>
          <a:xfrm>
            <a:off x="1042920" y="393228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AutoShape 37"/>
          <p:cNvSpPr/>
          <p:nvPr/>
        </p:nvSpPr>
        <p:spPr>
          <a:xfrm>
            <a:off x="4356000" y="2637000"/>
            <a:ext cx="1584360" cy="17269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Line 38"/>
          <p:cNvSpPr/>
          <p:nvPr/>
        </p:nvSpPr>
        <p:spPr>
          <a:xfrm>
            <a:off x="4932360" y="31399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Line 39"/>
          <p:cNvSpPr/>
          <p:nvPr/>
        </p:nvSpPr>
        <p:spPr>
          <a:xfrm>
            <a:off x="4716360" y="3500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Line 40"/>
          <p:cNvSpPr/>
          <p:nvPr/>
        </p:nvSpPr>
        <p:spPr>
          <a:xfrm>
            <a:off x="4572000" y="3932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AutoShape 41"/>
          <p:cNvSpPr/>
          <p:nvPr/>
        </p:nvSpPr>
        <p:spPr>
          <a:xfrm>
            <a:off x="6084720" y="2637000"/>
            <a:ext cx="1584360" cy="17269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Line 42"/>
          <p:cNvSpPr/>
          <p:nvPr/>
        </p:nvSpPr>
        <p:spPr>
          <a:xfrm>
            <a:off x="6661080" y="31399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Line 43"/>
          <p:cNvSpPr/>
          <p:nvPr/>
        </p:nvSpPr>
        <p:spPr>
          <a:xfrm>
            <a:off x="6445080" y="3500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Line 44"/>
          <p:cNvSpPr/>
          <p:nvPr/>
        </p:nvSpPr>
        <p:spPr>
          <a:xfrm>
            <a:off x="6300720" y="393228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45"/>
          <p:cNvSpPr/>
          <p:nvPr/>
        </p:nvSpPr>
        <p:spPr>
          <a:xfrm>
            <a:off x="147636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Rectangle 46"/>
          <p:cNvSpPr/>
          <p:nvPr/>
        </p:nvSpPr>
        <p:spPr>
          <a:xfrm>
            <a:off x="1493280" y="278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7"/>
          <p:cNvSpPr/>
          <p:nvPr/>
        </p:nvSpPr>
        <p:spPr>
          <a:xfrm>
            <a:off x="1493280" y="3141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Rectangle 48"/>
          <p:cNvSpPr/>
          <p:nvPr/>
        </p:nvSpPr>
        <p:spPr>
          <a:xfrm>
            <a:off x="1493280" y="3500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Rectangle 49"/>
          <p:cNvSpPr/>
          <p:nvPr/>
        </p:nvSpPr>
        <p:spPr>
          <a:xfrm>
            <a:off x="7126920" y="1125360"/>
            <a:ext cx="1476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PRIS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</a:t>
            </a: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LLE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2</a:t>
            </a: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HYRWYDDO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  3</a:t>
            </a: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YNNYRCH   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Rectangle 50"/>
          <p:cNvSpPr/>
          <p:nvPr/>
        </p:nvSpPr>
        <p:spPr>
          <a:xfrm>
            <a:off x="3220560" y="39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Rectangle 51"/>
          <p:cNvSpPr/>
          <p:nvPr/>
        </p:nvSpPr>
        <p:spPr>
          <a:xfrm>
            <a:off x="5020920" y="35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Rectangle 52"/>
          <p:cNvSpPr/>
          <p:nvPr/>
        </p:nvSpPr>
        <p:spPr>
          <a:xfrm>
            <a:off x="6749640" y="270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Rectangle 53"/>
          <p:cNvSpPr/>
          <p:nvPr/>
        </p:nvSpPr>
        <p:spPr>
          <a:xfrm>
            <a:off x="3220560" y="270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Rectangle 54"/>
          <p:cNvSpPr/>
          <p:nvPr/>
        </p:nvSpPr>
        <p:spPr>
          <a:xfrm>
            <a:off x="5020920" y="278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Rectangle 55"/>
          <p:cNvSpPr/>
          <p:nvPr/>
        </p:nvSpPr>
        <p:spPr>
          <a:xfrm>
            <a:off x="6749640" y="400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Rectangle 56"/>
          <p:cNvSpPr/>
          <p:nvPr/>
        </p:nvSpPr>
        <p:spPr>
          <a:xfrm>
            <a:off x="3220560" y="3500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Rectangle 57"/>
          <p:cNvSpPr/>
          <p:nvPr/>
        </p:nvSpPr>
        <p:spPr>
          <a:xfrm>
            <a:off x="5020920" y="3141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Rectangle 58"/>
          <p:cNvSpPr/>
          <p:nvPr/>
        </p:nvSpPr>
        <p:spPr>
          <a:xfrm>
            <a:off x="6749640" y="3141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Rectangle 59"/>
          <p:cNvSpPr/>
          <p:nvPr/>
        </p:nvSpPr>
        <p:spPr>
          <a:xfrm>
            <a:off x="3220560" y="3141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Rectangle 60"/>
          <p:cNvSpPr/>
          <p:nvPr/>
        </p:nvSpPr>
        <p:spPr>
          <a:xfrm>
            <a:off x="5020920" y="39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Rectangle 61"/>
          <p:cNvSpPr/>
          <p:nvPr/>
        </p:nvSpPr>
        <p:spPr>
          <a:xfrm>
            <a:off x="6749640" y="3500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Rectangle 62"/>
          <p:cNvSpPr/>
          <p:nvPr/>
        </p:nvSpPr>
        <p:spPr>
          <a:xfrm>
            <a:off x="7020000" y="981000"/>
            <a:ext cx="1873080" cy="180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Line 63"/>
          <p:cNvSpPr/>
          <p:nvPr/>
        </p:nvSpPr>
        <p:spPr>
          <a:xfrm>
            <a:off x="826920" y="501336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64"/>
          <p:cNvSpPr/>
          <p:nvPr/>
        </p:nvSpPr>
        <p:spPr>
          <a:xfrm>
            <a:off x="3276720" y="4581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ms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8:31:08Z</dcterms:created>
  <dc:creator>cahs</dc:creator>
  <dc:description/>
  <dc:language>en-US</dc:language>
  <cp:lastModifiedBy>TimData</cp:lastModifiedBy>
  <dcterms:modified xsi:type="dcterms:W3CDTF">2015-05-06T18:17:13Z</dcterms:modified>
  <cp:revision>8</cp:revision>
  <dc:subject/>
  <dc:title>Media Marketing</dc:title>
</cp:coreProperties>
</file>